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755039"/>
        <c:axId val="26233662"/>
      </c:barChart>
      <c:catAx>
        <c:axId val="467550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33662"/>
        <c:crosses val="autoZero"/>
        <c:auto val="1"/>
        <c:lblAlgn val="ctr"/>
        <c:lblOffset val="100"/>
        <c:noMultiLvlLbl val="0"/>
      </c:catAx>
      <c:valAx>
        <c:axId val="262336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550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8D8F-BC6C-4D42-A4A5-2EA77CACA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9299-6F1E-4B60-A299-055D26B3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A00D-EA67-40B0-9462-B13C4CBD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914C-45E7-4BCC-B3E3-C637EBF9F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3F1A-75B4-46B3-86E9-AFF11821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5EB6-5D96-4021-94CC-DDD698F3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E598-C71F-486E-A168-470DF5F0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60DF-497F-4D38-84B2-57E0FB01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9650-6A65-4A4A-9265-26E9EFB3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C9B1-CFBA-4098-9F65-184A41D5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C0E7-2D1B-45D2-90E7-C48F410B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CBBB-7E9F-413C-97DA-C07EA5FC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70823-8108-420E-8EC5-9829714C95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