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46869"/>
        <c:axId val="22141901"/>
      </c:barChart>
      <c:catAx>
        <c:axId val="71746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41901"/>
        <c:crosses val="autoZero"/>
        <c:auto val="1"/>
        <c:lblAlgn val="ctr"/>
        <c:lblOffset val="100"/>
        <c:noMultiLvlLbl val="0"/>
      </c:catAx>
      <c:valAx>
        <c:axId val="22141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46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58C-09F4-491B-BB0B-E8406E87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202-9B77-49A6-B96F-7B886822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81B-07E6-4D08-9075-FDB4FB0B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DD5-D75C-4F7A-8894-54C35E00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861-3114-4B3B-A595-E4230EF1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29B-A16C-407A-8080-52BE18F1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B5C-3C88-4EAE-A472-85CB4C3C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4EB-698F-42C4-8335-BF88B295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575-DB60-4C0C-9559-2E1CA2FE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937-C0E1-483B-9256-E247D22E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B59-4475-4795-BC52-85C2A39F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284-E1F9-42EC-B546-6D4BB78B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881F5-D0C1-4BAF-A52A-16F4AFC3C1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