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59010"/>
        <c:axId val="68471009"/>
      </c:barChart>
      <c:catAx>
        <c:axId val="15159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1009"/>
        <c:crosses val="autoZero"/>
        <c:auto val="1"/>
        <c:lblAlgn val="ctr"/>
        <c:lblOffset val="100"/>
        <c:noMultiLvlLbl val="0"/>
      </c:catAx>
      <c:valAx>
        <c:axId val="68471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59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813-87C9-45CE-BE83-EE115708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7BA-7E99-4AB3-B132-16CA41D5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026-6CB8-4BBF-9E14-AB48C8A8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EAE-8AF6-4D26-A604-EF317141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153-8155-4FC9-9C70-855C35D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9A7-1B44-4C22-A241-C0C5858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B77-41DB-4A7E-9463-4995CF8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096-FF50-41B1-B117-284FEAA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CFC-7271-4873-979F-9653C156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71B-74DD-4E26-9915-F79B897C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E67-A6CF-4874-8008-01FFE3F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C5-73E1-45D8-AC5E-8ACF397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3B476-E316-4468-A5CC-08F38801F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