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81962"/>
        <c:axId val="58274218"/>
      </c:barChart>
      <c:catAx>
        <c:axId val="42381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74218"/>
        <c:crosses val="autoZero"/>
        <c:auto val="1"/>
        <c:lblAlgn val="ctr"/>
        <c:lblOffset val="100"/>
        <c:noMultiLvlLbl val="0"/>
      </c:catAx>
      <c:valAx>
        <c:axId val="58274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81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DF6-7195-4846-A9F0-FC8A109B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A1C5-57AC-44D8-AD1B-FD8763D0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B37-1885-4064-BBED-CD9C6034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868-EA58-4B07-8F89-1B751D0B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7CA-9F66-4D07-866D-D6C7C52D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98C-13A2-4BA8-9F2B-51F4B3D8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558-1FB7-4283-86C7-0DECF655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8DE-3F59-4AE8-B354-2BDA1263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D3D-9DB3-47C6-9D1E-889D92D5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D4F-8EDC-4B9E-9D2F-2C158535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D19-27BA-4CDC-B807-5CA08580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8A2-4057-404E-8745-55F60DFB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C78A2-5DDB-439E-92CF-4ABCA0574F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