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47536"/>
        <c:axId val="89446093"/>
      </c:barChart>
      <c:catAx>
        <c:axId val="435475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46093"/>
        <c:crosses val="autoZero"/>
        <c:auto val="1"/>
        <c:lblAlgn val="ctr"/>
        <c:lblOffset val="100"/>
        <c:noMultiLvlLbl val="0"/>
      </c:catAx>
      <c:valAx>
        <c:axId val="894460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475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F3E9-6FEC-44A6-B7C9-872B9BFC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C3FF-1063-461A-8CF6-83A287F2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4BD6-0495-41DC-A2B2-BCF3DC23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7613-CF4B-47DF-A635-18D6E482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4F5-6BB9-4663-A4BF-4A2650D2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156-DA46-49C4-9DA8-D1F08508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F40-03A1-4EB7-A43D-EC91CB71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740-B2E2-4412-85CC-F782F40D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072D-FB32-4A7E-8F59-2DC79C64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40C7-02A4-4AAC-BBD5-E4168268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1352-7A8D-46A8-90E2-8A85E694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3045-35B6-4519-A065-4C61FF5E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BA04C-0BCA-40D9-8824-4534E0B74E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