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176754"/>
        <c:axId val="82323451"/>
      </c:barChart>
      <c:catAx>
        <c:axId val="581767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23451"/>
        <c:crosses val="autoZero"/>
        <c:auto val="1"/>
        <c:lblAlgn val="ctr"/>
        <c:lblOffset val="100"/>
        <c:noMultiLvlLbl val="0"/>
      </c:catAx>
      <c:valAx>
        <c:axId val="823234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767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6ED1-BEC3-462A-8258-0CA0A691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001B-2CF9-47F3-8FC7-FCA65DBF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0E14-057A-49BC-BB53-8A48BEAD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3F1E-6229-4ABD-A106-45FE2B6C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42C1-1EA6-4E47-AC1C-A1A8571C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B760-E8D8-4CCB-9947-73341490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5000-0274-4E26-B133-A0EBB80B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1AF6-2EB3-4A8B-B876-7C6A8945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14EF-1384-401F-A2FD-67DDFE18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5220-A813-4C5B-99D6-9C29C01F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1DA7-1C1F-42D6-85E6-D1E94430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E83F-96E2-483F-BBE0-D9965AF3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E8DED-F52B-4224-BA0F-2A2BA4ED0C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