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69308"/>
        <c:axId val="31547828"/>
      </c:barChart>
      <c:catAx>
        <c:axId val="42169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47828"/>
        <c:crosses val="autoZero"/>
        <c:auto val="1"/>
        <c:lblAlgn val="ctr"/>
        <c:lblOffset val="100"/>
        <c:noMultiLvlLbl val="0"/>
      </c:catAx>
      <c:valAx>
        <c:axId val="31547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69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07B-6861-4544-8AC7-2654AEBE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86B-A2F2-49EC-835E-E06BB844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8DB-239D-430C-A39C-8C5E1307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37B-4AC4-4380-8D5C-817770AE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DE8-1CD2-4E33-B9D0-23752D9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B00-BCA3-4150-A4B7-FCDDD65F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D8E-EAB3-420F-8592-24366F4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B91-5EB7-4F9A-8754-2EE846D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9F3-2457-4499-95AB-59910B7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54D-15B7-4A2E-B2E3-5E8C5A5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80E-5AD3-449D-A936-ADF1B37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676-E4E5-4053-BCC5-021EB3D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D2345-A0A1-4780-8AF0-75E025103F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